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29D8-019B-4ACD-8CB4-19006458B9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57FC-7DE9-4BED-B331-0827CF41D8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0778-52C1-4DD5-B4FD-905B047623E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D036-C6D4-4BBC-ABFE-197B80BD745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DE75-E88A-4A11-AA52-445449E4403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2673-CAAC-4AB7-B33C-F219BFCF971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4493-A42F-4F4D-AEAF-7F5468F0BA3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A2B4-5C23-4C4E-9DE5-A7CC6E0AE03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C847-D9B0-4F8F-AAD0-3DC77E2D7A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CF9A-FD18-4D8B-969E-F43C30D5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89B-9E65-4EE8-A12E-90661109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125-2A36-44CA-96A3-63D3C35F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34D-3A69-4DD0-A87A-CEFD49C5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2DB-EBF8-4638-8C54-104A608D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2CFA-A897-49EC-8893-0272F597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113-E111-48FB-AC04-B3E813EE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1FB4-A2AD-4A82-9C5D-21209DC7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88C-66E3-43B8-BE51-051EACAB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1A3-FB2E-4764-AD93-252FCD8B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834-3748-4719-9943-4DCAF5E0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749-2A11-47B7-9398-36EB0B53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653D-C360-4A46-A8E9-3DA0187D863A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BBC0-A0D5-414E-AD85-B85B923EF02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image" Target="../media/image23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비신청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3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사업비신청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29" descr=""/>
          <p:cNvPicPr/>
          <p:nvPr/>
        </p:nvPicPr>
        <p:blipFill>
          <a:blip r:embed="rId1"/>
          <a:srcRect l="13189" t="14814" r="14205" b="12345"/>
          <a:stretch/>
        </p:blipFill>
        <p:spPr>
          <a:xfrm>
            <a:off x="1352520" y="2795760"/>
            <a:ext cx="5564160" cy="3687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1763640" y="1503360"/>
            <a:ext cx="468360" cy="420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2231640" y="171468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협약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740040" y="414324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 신청 할 과제명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3973680" y="3630600"/>
            <a:ext cx="1170000" cy="162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3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4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48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5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직사각형 57"/>
            <p:cNvSpPr/>
            <p:nvPr/>
          </p:nvSpPr>
          <p:spPr>
            <a:xfrm>
              <a:off x="306000" y="3311640"/>
              <a:ext cx="5951880" cy="1336680"/>
            </a:xfrm>
            <a:prstGeom prst="rect">
              <a:avLst/>
            </a:prstGeom>
            <a:noFill/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직사각형 58"/>
            <p:cNvSpPr/>
            <p:nvPr/>
          </p:nvSpPr>
          <p:spPr>
            <a:xfrm>
              <a:off x="3056040" y="3943440"/>
              <a:ext cx="1068480" cy="174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2" name="TextBox 59"/>
          <p:cNvSpPr/>
          <p:nvPr/>
        </p:nvSpPr>
        <p:spPr>
          <a:xfrm>
            <a:off x="1149480" y="3375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TextBox 67"/>
          <p:cNvSpPr/>
          <p:nvPr/>
        </p:nvSpPr>
        <p:spPr>
          <a:xfrm>
            <a:off x="3851280" y="421308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일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담당자에게 문의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TextBox 68"/>
          <p:cNvSpPr/>
          <p:nvPr/>
        </p:nvSpPr>
        <p:spPr>
          <a:xfrm>
            <a:off x="2062080" y="476100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5" name="직선 화살표 연결선 4"/>
          <p:cNvCxnSpPr>
            <a:stCxn id="161" idx="2"/>
            <a:endCxn id="163" idx="1"/>
          </p:cNvCxnSpPr>
          <p:nvPr/>
        </p:nvCxnSpPr>
        <p:spPr>
          <a:xfrm>
            <a:off x="3589200" y="4118040"/>
            <a:ext cx="262800" cy="235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66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7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8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TextBox 23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TextBox 24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3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4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6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8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179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직사각형 58"/>
            <p:cNvSpPr/>
            <p:nvPr/>
          </p:nvSpPr>
          <p:spPr>
            <a:xfrm>
              <a:off x="2765160" y="4224600"/>
              <a:ext cx="1068480" cy="285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1" name="TextBox 66"/>
          <p:cNvSpPr/>
          <p:nvPr/>
        </p:nvSpPr>
        <p:spPr>
          <a:xfrm>
            <a:off x="2625840" y="454176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82" name="직선 화살표 연결선 4"/>
          <p:cNvCxnSpPr>
            <a:endCxn id="183" idx="2"/>
          </p:cNvCxnSpPr>
          <p:nvPr/>
        </p:nvCxnSpPr>
        <p:spPr>
          <a:xfrm flipV="1">
            <a:off x="3298680" y="3193560"/>
            <a:ext cx="9288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84" name="그림 5" descr=""/>
          <p:cNvPicPr/>
          <p:nvPr/>
        </p:nvPicPr>
        <p:blipFill>
          <a:blip r:embed="rId5"/>
          <a:stretch/>
        </p:blipFill>
        <p:spPr>
          <a:xfrm>
            <a:off x="304920" y="1212840"/>
            <a:ext cx="6168960" cy="207972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6"/>
          <p:cNvSpPr/>
          <p:nvPr/>
        </p:nvSpPr>
        <p:spPr>
          <a:xfrm>
            <a:off x="5508720" y="14302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7"/>
          <p:cNvSpPr/>
          <p:nvPr/>
        </p:nvSpPr>
        <p:spPr>
          <a:xfrm>
            <a:off x="507960" y="187164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890720" y="23335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8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9" name="모서리가 둥근 직사각형 23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90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TextBox 26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6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그룹 55"/>
          <p:cNvGrpSpPr/>
          <p:nvPr/>
        </p:nvGrpSpPr>
        <p:grpSpPr>
          <a:xfrm>
            <a:off x="284040" y="806400"/>
            <a:ext cx="6031080" cy="4540320"/>
            <a:chOff x="284040" y="806400"/>
            <a:chExt cx="6031080" cy="4540320"/>
          </a:xfrm>
        </p:grpSpPr>
        <p:pic>
          <p:nvPicPr>
            <p:cNvPr id="201" name="그림 56" descr=""/>
            <p:cNvPicPr/>
            <p:nvPr/>
          </p:nvPicPr>
          <p:blipFill>
            <a:blip r:embed="rId4"/>
            <a:srcRect l="12943" t="18754" r="14311" b="11407"/>
            <a:stretch/>
          </p:blipFill>
          <p:spPr>
            <a:xfrm>
              <a:off x="284040" y="806400"/>
              <a:ext cx="6031080" cy="45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직사각형 58"/>
            <p:cNvSpPr/>
            <p:nvPr/>
          </p:nvSpPr>
          <p:spPr>
            <a:xfrm>
              <a:off x="5807160" y="3471840"/>
              <a:ext cx="315720" cy="14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03" name="TextBox 66"/>
          <p:cNvSpPr/>
          <p:nvPr/>
        </p:nvSpPr>
        <p:spPr>
          <a:xfrm>
            <a:off x="3192480" y="5359320"/>
            <a:ext cx="38149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신청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’ 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or ‘</a:t>
            </a:r>
            <a:r>
              <a:rPr b="1" lang="ko-KR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반려</a:t>
            </a:r>
            <a:r>
              <a:rPr b="1" lang="en-US" sz="1200" spc="-1" strike="noStrike" u="sng">
                <a:solidFill>
                  <a:srgbClr val="953735"/>
                </a:solidFill>
                <a:uFillTx/>
                <a:latin typeface="맑은 고딕"/>
                <a:ea typeface="맑은 고딕"/>
              </a:rPr>
              <a:t>‘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TextBox 22"/>
          <p:cNvSpPr/>
          <p:nvPr/>
        </p:nvSpPr>
        <p:spPr>
          <a:xfrm>
            <a:off x="4643280" y="338616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신청버튼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23"/>
          <p:cNvSpPr/>
          <p:nvPr/>
        </p:nvSpPr>
        <p:spPr>
          <a:xfrm>
            <a:off x="5807160" y="2946240"/>
            <a:ext cx="315720" cy="374760"/>
          </a:xfrm>
          <a:prstGeom prst="rect">
            <a:avLst/>
          </a:prstGeom>
          <a:noFill/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06" name="꺾인 연결선 8"/>
          <p:cNvCxnSpPr>
            <a:stCxn id="205" idx="3"/>
            <a:endCxn id="203" idx="3"/>
          </p:cNvCxnSpPr>
          <p:nvPr/>
        </p:nvCxnSpPr>
        <p:spPr>
          <a:xfrm>
            <a:off x="6122520" y="3133800"/>
            <a:ext cx="885240" cy="2364480"/>
          </a:xfrm>
          <a:prstGeom prst="bentConnector3">
            <a:avLst>
              <a:gd name="adj1" fmla="val 125834"/>
            </a:avLst>
          </a:prstGeom>
          <a:ln w="38160">
            <a:solidFill>
              <a:srgbClr val="953735"/>
            </a:solidFill>
            <a:miter/>
          </a:ln>
        </p:spPr>
      </p:cxnSp>
      <p:grpSp>
        <p:nvGrpSpPr>
          <p:cNvPr id="207" name="그룹 32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9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TextBox 24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32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23Z</dcterms:modified>
  <cp:revision>139</cp:revision>
  <dc:subject/>
  <dc:title>PowerPoint 프레젠테이션</dc:title>
</cp:coreProperties>
</file>