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B275-2EF6-456B-AAE0-E2828E9B305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F9A9-D3E5-488F-A824-AFDB9F61B2D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46A3-EBD0-4A9B-94EA-777841C3EBE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C480-19A7-4C66-A882-F1D7428B52A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EAB4-9AE5-4D74-B886-3F9D9751B92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DED0-6484-4965-A941-B2FEC59AE4D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BE8D-F409-49CE-8E2B-B45671867E4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D99C-92B0-4A43-963F-DE0BA0316C3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9931-E9B7-4907-AE11-7E2FA3168FE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9FF2-E4D7-48C3-B809-A09898AD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5CD-F5CC-4AFB-929C-AAB8A940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CB0-ECF7-4FBE-B314-244E95F5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5C9A-7F3D-45FD-ACD5-20992651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6D19-068F-4318-BC7C-D0FBCD28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2195-6C83-416E-985F-142726F6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70B2-286C-4967-A6BA-24675264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5B9F-15F2-47B7-8F17-73F41FCD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B76D-B800-49D3-AB2D-168BAB37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0DCC-4162-4264-A533-DEAFFB59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7703-0A92-4830-9229-59C0DD2F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D803-1A1C-47BC-8D25-DAA32981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DC41-823B-4021-9975-C44FBDCC1BC1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5451-CF0B-4FF9-9D84-FF1602B6C6D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3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사업비신청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29" descr=""/>
          <p:cNvPicPr/>
          <p:nvPr/>
        </p:nvPicPr>
        <p:blipFill>
          <a:blip r:embed="rId1"/>
          <a:srcRect l="13189" t="14814" r="14205" b="12345"/>
          <a:stretch/>
        </p:blipFill>
        <p:spPr>
          <a:xfrm>
            <a:off x="1352520" y="2795760"/>
            <a:ext cx="5564160" cy="3687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1763640" y="1503360"/>
            <a:ext cx="468360" cy="420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2231640" y="171468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협약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740040" y="41432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 신청 할 과제명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3973680" y="3630600"/>
            <a:ext cx="1170000" cy="162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3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4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48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5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직사각형 57"/>
            <p:cNvSpPr/>
            <p:nvPr/>
          </p:nvSpPr>
          <p:spPr>
            <a:xfrm>
              <a:off x="306000" y="3311640"/>
              <a:ext cx="5951880" cy="1336680"/>
            </a:xfrm>
            <a:prstGeom prst="rect">
              <a:avLst/>
            </a:prstGeom>
            <a:noFill/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직사각형 58"/>
            <p:cNvSpPr/>
            <p:nvPr/>
          </p:nvSpPr>
          <p:spPr>
            <a:xfrm>
              <a:off x="3056040" y="3943440"/>
              <a:ext cx="1068480" cy="174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2" name="TextBox 59"/>
          <p:cNvSpPr/>
          <p:nvPr/>
        </p:nvSpPr>
        <p:spPr>
          <a:xfrm>
            <a:off x="1149480" y="3375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Box 67"/>
          <p:cNvSpPr/>
          <p:nvPr/>
        </p:nvSpPr>
        <p:spPr>
          <a:xfrm>
            <a:off x="3851280" y="421308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일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담당자에게 문의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TextBox 68"/>
          <p:cNvSpPr/>
          <p:nvPr/>
        </p:nvSpPr>
        <p:spPr>
          <a:xfrm>
            <a:off x="2062080" y="4761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5" name="직선 화살표 연결선 4"/>
          <p:cNvCxnSpPr>
            <a:stCxn id="161" idx="2"/>
            <a:endCxn id="163" idx="1"/>
          </p:cNvCxnSpPr>
          <p:nvPr/>
        </p:nvCxnSpPr>
        <p:spPr>
          <a:xfrm>
            <a:off x="3589200" y="4118040"/>
            <a:ext cx="262800" cy="23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66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7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8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extBox 23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TextBox 24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2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3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4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7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직사각형 58"/>
            <p:cNvSpPr/>
            <p:nvPr/>
          </p:nvSpPr>
          <p:spPr>
            <a:xfrm>
              <a:off x="2765160" y="4224600"/>
              <a:ext cx="1068480" cy="28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2625840" y="454176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2" name="직선 화살표 연결선 4"/>
          <p:cNvCxnSpPr>
            <a:endCxn id="183" idx="2"/>
          </p:cNvCxnSpPr>
          <p:nvPr/>
        </p:nvCxnSpPr>
        <p:spPr>
          <a:xfrm flipV="1">
            <a:off x="3298680" y="3193560"/>
            <a:ext cx="9288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84" name="그림 5" descr=""/>
          <p:cNvPicPr/>
          <p:nvPr/>
        </p:nvPicPr>
        <p:blipFill>
          <a:blip r:embed="rId5"/>
          <a:stretch/>
        </p:blipFill>
        <p:spPr>
          <a:xfrm>
            <a:off x="304920" y="1212840"/>
            <a:ext cx="6168960" cy="207972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6"/>
          <p:cNvSpPr/>
          <p:nvPr/>
        </p:nvSpPr>
        <p:spPr>
          <a:xfrm>
            <a:off x="5508720" y="14302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7"/>
          <p:cNvSpPr/>
          <p:nvPr/>
        </p:nvSpPr>
        <p:spPr>
          <a:xfrm>
            <a:off x="507960" y="187164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890720" y="23335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9" name="모서리가 둥근 직사각형 2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0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TextBox 26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6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8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0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201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직사각형 58"/>
            <p:cNvSpPr/>
            <p:nvPr/>
          </p:nvSpPr>
          <p:spPr>
            <a:xfrm>
              <a:off x="5807160" y="3471840"/>
              <a:ext cx="315720" cy="14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" name="TextBox 66"/>
          <p:cNvSpPr/>
          <p:nvPr/>
        </p:nvSpPr>
        <p:spPr>
          <a:xfrm>
            <a:off x="3192480" y="5359320"/>
            <a:ext cx="3814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신청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’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or 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반려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4643280" y="338616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버튼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23"/>
          <p:cNvSpPr/>
          <p:nvPr/>
        </p:nvSpPr>
        <p:spPr>
          <a:xfrm>
            <a:off x="5807160" y="2946240"/>
            <a:ext cx="315720" cy="374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6" name="꺾인 연결선 8"/>
          <p:cNvCxnSpPr>
            <a:stCxn id="205" idx="3"/>
            <a:endCxn id="203" idx="3"/>
          </p:cNvCxnSpPr>
          <p:nvPr/>
        </p:nvCxnSpPr>
        <p:spPr>
          <a:xfrm>
            <a:off x="6122520" y="3133800"/>
            <a:ext cx="885240" cy="2364480"/>
          </a:xfrm>
          <a:prstGeom prst="bentConnector3">
            <a:avLst>
              <a:gd name="adj1" fmla="val 125834"/>
            </a:avLst>
          </a:prstGeom>
          <a:ln w="38160">
            <a:solidFill>
              <a:srgbClr val="953735"/>
            </a:solidFill>
            <a:miter/>
          </a:ln>
        </p:spPr>
      </p:cxnSp>
      <p:grpSp>
        <p:nvGrpSpPr>
          <p:cNvPr id="20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9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TextBox 24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23Z</dcterms:modified>
  <cp:revision>139</cp:revision>
  <dc:subject/>
  <dc:title>PowerPoint 프레젠테이션</dc:title>
</cp:coreProperties>
</file>